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750-FB0F-43AA-BB2F-77C8A6FE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A06-58B0-4E38-9CE5-A129DFDA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D30-F5BB-4001-93FA-D7D8CF42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41F-09E3-465C-9A31-999D540A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02C-422B-47B9-B3E0-9AC86A3D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C4E-5E9D-4C81-B9B1-B8ABA18C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538-E944-40AB-8E2E-E10C6A52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3B2-C517-4F94-8832-ADF4EFCE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94C-EE9D-4003-AA31-B47212B8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376-253E-4EBF-A390-B4869B59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F76-FB80-4C77-A548-1154EA92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297-B876-447E-8763-C7D8639D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E26E-C038-4D7F-A5CB-030BEA677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114800" y="304920"/>
            <a:ext cx="43005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ESPRESS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99072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uon Giorno, Matteo.  Come sta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ne grazie, e t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ne, grazie.  Facciamo qualco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i, che co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rca le lettere.  Cerca la “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ccola qu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olto bene!  Cerca la “r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” come r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ravissi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azi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14800" y="304920"/>
            <a:ext cx="43005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Arial Black"/>
              </a:rPr>
              <a:t>ESPRESS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99072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uon _________, Matteo.  Come sta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ne grazie, e 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ne, grazie.  __________ qualco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i, ______ co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________ le lettere.  Cerca la “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ccola ______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___________ bene!  Cerca la “r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” come 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____________________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azi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04920"/>
            <a:ext cx="2438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l in the bla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14800" y="304920"/>
            <a:ext cx="43005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ESPRESS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066680"/>
            <a:ext cx="70866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rca le lett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733920"/>
            <a:ext cx="70866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ccola qu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5562720"/>
            <a:ext cx="70866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” come ran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6668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4290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53341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14800" y="304920"/>
            <a:ext cx="43005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ESPRESS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1219320"/>
            <a:ext cx="3352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zat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124080"/>
            <a:ext cx="33530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i la por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4495680"/>
            <a:ext cx="33530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udi la por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5791320"/>
            <a:ext cx="3352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g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934320" y="1219320"/>
          <a:ext cx="146196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19320"/>
                    <a:ext cx="146196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981080" y="2895480"/>
          <a:ext cx="104004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895480"/>
                    <a:ext cx="104004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8076960" y="4343400"/>
          <a:ext cx="43164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76960" y="4343400"/>
                    <a:ext cx="43164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523880" y="5715000"/>
          <a:ext cx="719280" cy="84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5715000"/>
                    <a:ext cx="7192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191120" y="29718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419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5562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629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18:33:48Z</dcterms:created>
  <dc:creator>Preferred Customer</dc:creator>
  <dc:description/>
  <dc:language>en-US</dc:language>
  <cp:lastModifiedBy>Preferred Customer</cp:lastModifiedBy>
  <cp:lastPrinted>2003-03-31T18:48:18Z</cp:lastPrinted>
  <dcterms:modified xsi:type="dcterms:W3CDTF">2003-04-01T03:18:21Z</dcterms:modified>
  <cp:revision>5</cp:revision>
  <dc:subject/>
  <dc:title>No Slide Title</dc:title>
</cp:coreProperties>
</file>